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500-6BE4-4F10-B3C0-EEDB1D9A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881-46E5-489C-BBB4-1A89A569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16C01-8742-4091-ADB3-929D21C4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2CCB0-27A5-49C3-912D-A2C6E635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577B1-C8FB-4249-8D09-9DFE42CB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F3659-D970-42FE-8C71-961B609B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17BEC-8EDE-44E1-9750-499755CA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17F9D-F421-4176-8876-EB0F4BBE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6C484-0FD6-4F1F-875B-C65D827C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4B0D9-5067-4CDA-B7DE-3E03DCFD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589B9-96B0-4F1D-94E1-C646E135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4A541-662B-47C0-81D8-4EF0074C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1BB-5840-42DD-B692-0CEB30B1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EC8F0-381D-4718-8453-A1871356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6904E-4A0D-4E13-8BDE-118EE604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30D82-D2F8-4CF4-9253-88495554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4F3EA-CAF7-4ED5-ADAB-BE009D61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F4107-6093-4BDC-BAD3-3EE805E2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F52EB-3D24-4F33-B203-CE9825ED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C4C59-884F-40B5-8B61-AC2CA7E2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02029-9D0B-4178-928C-81572E09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4EE0C-CE7E-439B-AE58-53D2E526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D6336-8A18-419D-A152-6BFAFF6B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6AB-7207-47CF-B4ED-7764076B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6D0E2-463C-4EFB-ABC1-560409BC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15456-0A54-4B9F-970A-59860694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9F306-AB90-426F-A1A4-767D5626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78CB4-635B-4649-8ADE-3C48C01A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9E613-B723-419A-B532-A5B9A0F1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0D46A-D7E0-4FD5-A9B6-18327E11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89DAD-3EE8-45F3-B6C6-775928FD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8FEF4-06B6-407E-9705-7DCE8475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CC9E4-7ED7-4F00-BAED-A4C1C8B2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6C1B4-3340-46AF-9BD4-05E44156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E46F-FF3F-4925-A3BC-0CAA34E5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18EE0-8D7E-488A-8FBF-C3E5EC27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7ED53-3A49-4FE7-9E6A-7F319A90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A603D-71EF-4447-A50D-3FF05AC9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4A106-DEDD-431C-A0C8-2E4563AE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33E42-AF26-4FE1-BC41-A8AB2534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308A7-FFCB-45B5-93EB-603A7313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9E1F4-8D2E-4681-B5B9-C8861695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818B2-5DB5-411B-8B12-7557870B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41773-67C1-40C0-9F50-90D529F7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8FFB0-D6C5-42E4-97F5-7810A88F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620C-0768-483F-982A-FC198A82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AC6F2-09E0-4410-9CAA-76A677DF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99EFF-F420-4B50-A337-81BE6DD6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AE850-D646-4759-A1FB-9658F882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2EEB6-D70A-4F63-9EFA-D8EBBF7B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64B04-9FEE-40D1-B15D-1F0BE737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C742-A98E-4069-8695-09E03F47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4699-86F5-4461-9D37-2538ACA5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222B-065F-44C0-B3F5-CB0D67A0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702F-4ED4-4E47-A500-59AFBB7F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D3A6-97EA-4F64-AF2E-964668C6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8A7-078C-431A-8173-F4B04B91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B96B-504B-417F-A653-278CD0D9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74D9-E287-45D6-B468-C4FF5C6D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E70D-7ECA-4AE3-8018-3096EC77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2E40-52AC-44C1-AEBB-C2DD0415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2377-5064-43D8-B21B-6817938A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9FF96-3519-4C8B-8207-E7F03B62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DF8A4-1005-4EE2-A318-DECB2A02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030F7-ECA0-4C4B-B863-E41F5550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36B25-EB62-4C0C-99E3-DBD88226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42766-90C8-4AD0-A6C8-71A1F903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595-D124-4FDC-99EE-E1ADB3E8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FEDC9-2830-43F1-B3CB-F202DF9B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2ACDC-7577-4BB4-8DEA-FCD8E599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D32F5-4AB1-4F5E-8A9F-45ACC62E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B10B8-1B1B-4283-A448-9133D822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C767C-9AFA-48A5-AEC0-F673FC83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64FC4-50F6-4236-8C76-109F8E9A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60161-C3D3-4F60-AC2B-9B44AFF7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131D3-8235-45F4-8B23-CEF9FEE4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6BEFE-AAAA-4189-82E2-3910A3D5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E27D6-2A6E-4270-98FC-2E817D06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B6D-8EB8-40DE-84C3-F31F4105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9EA29-C9C9-472F-A803-954C80D2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E8ABE-4707-4BB9-8D9D-812CC666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199A0-91F7-4628-8B1D-92E7A313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08576-AB91-4519-B05A-DA00D6EE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855DF-9F74-4470-869D-809532A1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B8465-F5F9-4B6A-8F9E-BE47DAA4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5CF81-CC8F-4831-916B-1E2A9B23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E8C3E-5309-4000-9626-24A57BED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1555D-5992-4D59-8D03-C8601114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C085D-5DF3-4BFC-8BBA-5F8E8A0C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034-C158-4B58-9FA1-874CAAEF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56667-B885-4C6F-A003-DDA1ECE9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05A10-927F-449D-906C-214F400B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EE43E-8737-4E7D-808E-45142431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469C3-2750-48B4-862A-7A4AD3A6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51D73-D129-4612-9367-2072A267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B78D5-4E6A-4AE7-A123-7EE97389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BFA23-4CC0-41D2-8859-35AA7C65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19DEB-E028-4843-A873-EA727A37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CE07F-C427-4F10-AFBC-857AC081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5A36C-0288-4A29-B9CF-9D6426AC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004-963E-46F8-A139-C323C8E2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CC742-E2B6-4771-8FE8-14D3275B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FAFFA-ED5B-4BD7-B1A2-A88A7700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41825-AC04-40D8-ACE3-F5CAADCE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5FD50-47F3-4360-B9BE-3B4FCD57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B6AE9-4C82-48AF-973B-4AA73DDA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E96FC-DABB-448A-B988-D30346F1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74626-05C1-456F-9388-ABF245EB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60870-F5B6-4BC4-9970-5F4BEEEE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8F982-A9A1-4B56-85C4-B813091F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DE28C-16D9-45C8-B4B3-D36782C9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7F0-4695-4A70-BE1B-C1BE9CDE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B682A-B39E-4FD6-9D4E-0D537622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D4483-11C1-4C77-BAF6-71517C49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4D0EB-45B8-43C2-8BA6-80DE5E51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2E7D7-6EEC-4735-A59D-74789869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E496D-380A-47F8-BC08-96610017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45258-760C-4677-A80E-155B9047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0CD7E-B222-4031-BAC4-FFD50298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A0E40-0630-4A3F-993A-EFA56700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79814-06AF-40E9-B0C9-30770D94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342FB-D21A-4249-A981-95270D5F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420-63B5-4244-B251-F1110A03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FD770-A6D8-4A6A-9E42-E1A9DF34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E7532-567A-4246-9A13-82C4E6FE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534A7-D7F9-4B41-9A55-50380414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692D8-166D-4A4B-AFBA-5EE7089C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0022F-6482-4CF4-847C-8E853341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F4974-7E3D-42ED-9A51-6D72FDF6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84769-BA79-4344-88FA-98EF47D1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5FDFD-8125-43B3-9897-646A9F84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3058B-48A5-4822-A7FE-19E903F3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190FD-D633-43AD-88B1-6DC5E2E0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179-5383-4E96-8419-9D314574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81CE7-7230-45E2-92C2-D5B5FF45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1600A-7C09-41B6-BC44-2437DE6C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455AE-9D6E-4999-BC14-20A4B6E5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70135-8705-4079-B98B-DCCE837F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D6C99-A1D8-4FA5-8842-CC5846AE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A74A7-6BD9-48D0-B019-34A5BC1D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D8EAB-0FF3-4053-A2DA-42CB180B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10787-5B9E-4D68-97F0-4962901D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2E0B9-237A-45C1-82B7-D6DD9AF6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3DD02-37CA-49EE-B050-F84B9D19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F5A4-F5BF-4820-A327-F578FB22D1C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6B6F-BBD6-4D7D-A767-5DD2C8DF477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B345-C26D-4DBF-8BEB-E694D23E26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3AEB-7134-4358-B8C4-EF04712D606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AC87-B449-4352-970A-90864A63F8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4764-EFCE-4FB1-972B-BBD982BD820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5A59-C7D6-4308-83B3-6F976EDF8D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F171-93AD-41CF-82E1-1490292903C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081B-0670-4681-8BC8-8B886689E6E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3F4A-9129-4973-801F-0F5DD6E1EB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F8CD-99C1-46D7-A1F7-7589AD65809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3463-F83F-4286-9197-F92BC8E7DB5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82 Poznáš počet hviez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znáš počet hviezd, čo sviet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je tichá jasná noc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ré z prenesmiernej diaľ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stujú nám Božiu moc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smír celý Pán Boh stvor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u múdrosť sám doň vlož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siaľ tvoriť neprest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ný Tvorca, nebies Kráľ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vieš, koľko živých tvorov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ta ráno slnka j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oľko hlasov Pána chvá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ždým dychom zas a z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voriteľ náš milostiv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die nad nimi, všetky živ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ade jasot, samý ple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včera, tak aj dn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vieš, z koľkých detských úst z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ieseň chvály vesel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oľko detí každé rán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ku k nebu vysie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im zdravie, silu d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ráni ich a požehn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, aj teba má on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čnú radosť chce ti da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57:51Z</dcterms:modified>
  <cp:revision>84</cp:revision>
  <dc:subject/>
  <dc:title>Je veľký náš Pán, on slávy je Kráľ Nech do všetkých strán  spev vrúcnych znie chvál.</dc:title>
</cp:coreProperties>
</file>